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3391-FF62-421B-ACD9-85B68832321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F4B0-7D5A-4D61-A827-8A081561FBB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em, este exemplo simples dá uma dimensão de um dos problemas criados com a mistura de marcação com apresentaçã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estilizaçã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10FC-0E6E-4862-A5FD-96554B7167E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C9E-57DB-49A6-BE82-9B159B52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E0A-320E-4475-84EE-C446A8E6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7E42-5A55-4265-A536-BFE98587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AA3-0380-4FC4-B8E8-C56155D9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CD4-00AB-4CF5-8961-8B647885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146-4B87-4B05-88C2-C0C6DFB0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ADBB-B1E5-439A-BC77-1C5360C8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01B-7BDF-4617-973C-D0966604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24080" y="2743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421-6E4E-4722-8A77-DB6BD2D7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E4D7-1A39-4ACC-A42D-BB9E26AF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4BD3-83ED-4F72-8AFE-A6D6A287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C5B-74E1-41FB-8131-BE8DD1B2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1A11-AA8B-484C-A44F-CD0B1BFF2A22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7"/>
          <p:cNvSpPr/>
          <p:nvPr/>
        </p:nvSpPr>
        <p:spPr>
          <a:xfrm flipH="1">
            <a:off x="0" y="141768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 IFRN.jpg"/>
          <p:cNvPicPr/>
          <p:nvPr/>
        </p:nvPicPr>
        <p:blipFill>
          <a:blip r:embed="rId2"/>
          <a:stretch/>
        </p:blipFill>
        <p:spPr>
          <a:xfrm>
            <a:off x="0" y="0"/>
            <a:ext cx="3187800" cy="139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Straight Connector 14"/>
          <p:cNvSpPr/>
          <p:nvPr/>
        </p:nvSpPr>
        <p:spPr>
          <a:xfrm flipH="1">
            <a:off x="6480" y="685800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5"/>
          <p:cNvSpPr/>
          <p:nvPr/>
        </p:nvSpPr>
        <p:spPr>
          <a:xfrm flipH="1">
            <a:off x="6480" y="673092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3.org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3" descr=""/>
          <p:cNvPicPr/>
          <p:nvPr/>
        </p:nvPicPr>
        <p:blipFill>
          <a:blip r:embed="rId1"/>
          <a:stretch/>
        </p:blipFill>
        <p:spPr>
          <a:xfrm>
            <a:off x="682560" y="2127240"/>
            <a:ext cx="7778880" cy="1474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Introdução a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scading Style Sheet (C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538920" y="354600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ora vamos fazer um exemplo parecido com o mostrado anteri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 que com a cor vermelha e o alinhamento a esquer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50920" y="185904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color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 style = "font-size: 20pt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158040" y="162792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 Agrupar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0840" y="2564640"/>
            <a:ext cx="77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cisarmos de aplicar os estilos a mais do que um elemento pod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upar os seletores que partilham as mesmas definiçõ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sso escrevemos um seguido do outro, separando-os por vírgu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emplo seguinte os elementos de &lt;h1&gt; até &lt;h6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lham todos a mesma defin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644560" y="501264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1,h2,h3,h4,h5,h6 { color: green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891720" y="2350800"/>
            <a:ext cx="747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seletores de classe permitem-nos definir estilos diferentes que podem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licados ao mesmo elemento. Imagine que precisamos ter dois tipos difere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parágrafo no documento: um alinhado à direita e outro alinhado ao cen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como os seletores de classe tornam isto muito fáci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340000" y="400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direita { text-align: right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63720" y="3428640"/>
            <a:ext cx="721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direita"&gt; Este parágrafo está alinhado a direita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centro"&gt; Este parágrafo está 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834480" y="2565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seletores de classe também podem ser definidos sem colocarmos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me de um elemento no início da definição. Quando isso acontece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ões podem ser aplicadas a qualquer elemento cujo atrib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 tenha o valor corr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963520" y="4507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350720" y="443016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&lt;h2 class="centro"&gt; Cabeçalho alinhado ao centro &lt;/h2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63520" y="2851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80000" y="162792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75200" y="2420640"/>
            <a:ext cx="790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eletor de id é diferente do seletor de classe porque se aplica a um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 da página. As regras do HTML ditam que 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lores do atribut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ão podem repetir-se numa mesma pág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í resulta que o núme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s no documento com um determinado id é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m ou é 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309760" y="5515920"/>
            <a:ext cx="45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0760" y="4220640"/>
            <a:ext cx="79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regra de seleção para o estilo definido no exemplo seguinte indica que 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 pode ser aplicado a um elemento &lt;p&gt; que tenha o valor "para1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atributo 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95840" y="162180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699120" y="3227040"/>
            <a:ext cx="791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&lt;p id="para1"&gt; Este parágrafo está alinhado ao centro e tem cor vermelha. &lt;/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42160" y="2708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13440" y="3998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920520" y="4467240"/>
            <a:ext cx="702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&lt;div id="para1"&gt; Este elemento não está alinhado ao centro e não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or vermelha porque não é um parágrafo. &lt;/div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180000" y="155664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143960" y="2421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793440" y="31410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quisermos que a regra se aplique a qualquer elemento que tenha 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1 basta escrevê-la na forma seguin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2310120" y="44370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374400" y="5515560"/>
            <a:ext cx="83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h1 id="para1"&gt;Esse é um exemplo centralizado e com cor vermelha.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4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forma recomendada para formatar as páginas escritas em HTML baseia-se nos padrões "Cascading Style Sheets" (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folhas de estilos em cascat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, publicados pelo </a:t>
            </a:r>
            <a:r>
              <a:rPr b="0" lang="pt-B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orld Wide Web Consortium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W3C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539640" y="1773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id1 {text-align: center; color: blue; font-size: 20p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#id2 { text-align: left; color: red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1 id="id1"&gt;Meu título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p id="id2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58560" y="17661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87760" y="2712960"/>
            <a:ext cx="7369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emos inserir comentários nas definições CSS para explicar o código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evemos tornando-o mais fácil de compreend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mais tarde voltarmos a uma folha de estilos, ou se a partilharmos 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a pessoa, será mais fácil perceber como funcio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comentários devem ser ignorados pelo browser, mas as versões 5 do MS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iona como se eles fossem definições, o que pode causar er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isso coloque comentários apenas em folhas de estilos que sejam li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enas pel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SIE 6, pelo Netscape 7/Mozilla ou pelo Op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252000" y="16995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102680" y="3057480"/>
            <a:ext cx="700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p { text-align: center;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/* Isto é um comentári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color: black;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/* O MSIE 5 não reconhece os comentários!!!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font-family: 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118440" y="2489760"/>
            <a:ext cx="890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cê pode definir regras de CSS em três lugares. E, por definição, pode uti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ombinação dos três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s seus web sites. A maneira como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ras interagem entre si está relacionada à parte "em cascata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s três lugares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m um documento separado fora de todos os documentos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o cabeçalho de um documento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)  Dentro de uma tag de HT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649440" y="1939320"/>
            <a:ext cx="78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m d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m um nome e afeta as páginas HTML em seu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um modo diferente, como discutido aqu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3840" y="3024000"/>
            <a:ext cx="8356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Extern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Externo significa que você coloca as regras de CSS em um arquivo separad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então sua página HTML pode fazer um link para esse arquivo. Essa abordagem l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mite definir regras em um ou mais arquivos que podem ser aplicadas em algu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do seu web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orpor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corporado significa que você especifica as regras de CSS no cabeçal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documento, dentro do elemento &lt;head&gt;. As regras incorporadas afetam somente a página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line significa que você especifica as regras de CSS dentro da tag de 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sas regras afetam somente a tag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0"/>
          <p:cNvSpPr/>
          <p:nvPr/>
        </p:nvSpPr>
        <p:spPr>
          <a:xfrm>
            <a:off x="3152160" y="206064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m linha – i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2800" y="2781360"/>
            <a:ext cx="807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estilos aplicados a elementos de forma individual. Para declarar um es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 line basta para isso aplicar o estilo ao atributo sty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76360" y="5084640"/>
            <a:ext cx="79912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&lt;p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tyle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= "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font-size: 20pt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"/>
          <p:cNvGrpSpPr/>
          <p:nvPr/>
        </p:nvGrpSpPr>
        <p:grpSpPr>
          <a:xfrm>
            <a:off x="562680" y="4292640"/>
            <a:ext cx="8029440" cy="388800"/>
            <a:chOff x="562680" y="4292640"/>
            <a:chExt cx="8029440" cy="388800"/>
          </a:xfrm>
        </p:grpSpPr>
        <p:sp>
          <p:nvSpPr>
            <p:cNvPr id="131" name="Rectangle 12"/>
            <p:cNvSpPr/>
            <p:nvPr/>
          </p:nvSpPr>
          <p:spPr>
            <a:xfrm>
              <a:off x="562680" y="4292640"/>
              <a:ext cx="53974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&lt;p&gt;Este texto não tem nenhum estilo aplicado&lt;/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276240" y="431316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em estilo apli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599292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3344040" y="19162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Incorpo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522360" y="249228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s estilos incorporados, são estilos declarados no cabeçalho d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934920" y="3267360"/>
            <a:ext cx="7274160" cy="27709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html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&lt;head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&lt;title&gt;exemplo estilos incorporados&lt;/tit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&lt;style type="text/css"&gt;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    p {background-color: red; font-family: “comic sans ms”; font-size: 14pt}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&lt;/sty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p&gt;teste com estilo incorporado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"/>
          <p:cNvSpPr/>
          <p:nvPr/>
        </p:nvSpPr>
        <p:spPr>
          <a:xfrm>
            <a:off x="3586320" y="1916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020600" y="24271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estilos externos, são estilos declarados em arquivo ext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45040" y="328428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definir um conjunto de regras de estilo que você pode facilmente apli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alguma página do seu site, é preciso colocar as regras em um arqu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. Você pode criar este arquivo com um editor de textos simples, como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epad do Windows, e dar ao nome desse arquivo a extensão .c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835560" y="5065920"/>
            <a:ext cx="748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gora, para utilizar os estilos definidos neste arquivo .css você precisa adicio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 tag a seguir ao cabeçalho da página, onde </a:t>
            </a:r>
            <a:r>
              <a:rPr b="1" lang="fr-FR" sz="1600" spc="-1" strike="noStrike">
                <a:solidFill>
                  <a:srgbClr val="ff0000"/>
                </a:solidFill>
                <a:latin typeface="LucidaGrande"/>
              </a:rPr>
              <a:t>meu_estilo.css</a:t>
            </a:r>
            <a:r>
              <a:rPr b="0" lang="fr-FR" sz="1600" spc="-1" strike="noStrike">
                <a:solidFill>
                  <a:srgbClr val="000000"/>
                </a:solidFill>
                <a:latin typeface="LucidaGrande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é uma refer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bsoluta ou relativa ao arquivo .c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link rel="stylesheet" href=“css/</a:t>
            </a:r>
            <a:r>
              <a:rPr b="0" i="1" lang="pt-BR" sz="1600" spc="-1" strike="noStrike">
                <a:solidFill>
                  <a:srgbClr val="4510ee"/>
                </a:solidFill>
                <a:latin typeface="Arial"/>
              </a:rPr>
              <a:t>meu_estilo.css”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3586320" y="18446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050920" y="3990960"/>
            <a:ext cx="6193080" cy="228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title&gt;Estilo Externo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99ff"/>
                </a:solidFill>
                <a:latin typeface="Arial"/>
              </a:rPr>
              <a:t>&lt;link rel="stylesheet" href="css/estilos.css"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p&gt;Testando Estilo externo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784080" y="2349360"/>
            <a:ext cx="505080" cy="358920"/>
          </a:xfrm>
          <a:custGeom>
            <a:avLst/>
            <a:gdLst>
              <a:gd name="textAreaLeft" fmla="*/ 25200 w 505080"/>
              <a:gd name="textAreaRight" fmla="*/ 482760 w 505080"/>
              <a:gd name="textAreaTop" fmla="*/ 76680 h 358920"/>
              <a:gd name="textAreaBottom" fmla="*/ 337320 h 358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1187280" y="3141720"/>
            <a:ext cx="505080" cy="360360"/>
          </a:xfrm>
          <a:custGeom>
            <a:avLst/>
            <a:gdLst>
              <a:gd name="textAreaLeft" fmla="*/ 25200 w 505080"/>
              <a:gd name="textAreaRight" fmla="*/ 482760 w 505080"/>
              <a:gd name="textAreaTop" fmla="*/ 77040 h 360360"/>
              <a:gd name="textAreaBottom" fmla="*/ 338760 h 3603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759960" y="23734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10ee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174680" y="3164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94464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97164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97164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BD18257_"/>
          <p:cNvPicPr/>
          <p:nvPr/>
        </p:nvPicPr>
        <p:blipFill>
          <a:blip r:embed="rId1"/>
          <a:stretch/>
        </p:blipFill>
        <p:spPr>
          <a:xfrm rot="10800000">
            <a:off x="1187280" y="3789000"/>
            <a:ext cx="317520" cy="4158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54" name="Document"/>
          <p:cNvSpPr/>
          <p:nvPr/>
        </p:nvSpPr>
        <p:spPr>
          <a:xfrm rot="10800000">
            <a:off x="2050920" y="3184200"/>
            <a:ext cx="216000" cy="360360"/>
          </a:xfrm>
          <a:custGeom>
            <a:avLst/>
            <a:gdLst>
              <a:gd name="textAreaLeft" fmla="*/ 9720 w 216000"/>
              <a:gd name="textAreaRight" fmla="*/ 206280 w 216000"/>
              <a:gd name="textAreaTop" fmla="*/ 13320 h 360360"/>
              <a:gd name="textAreaBottom" fmla="*/ 274320 h 360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169056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904320" y="42210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Arial"/>
              </a:rPr>
              <a:t>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1691280" y="357336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510ee"/>
                </a:solidFill>
                <a:latin typeface="Arial"/>
              </a:rPr>
              <a:t>estilos.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2786760" y="3213000"/>
            <a:ext cx="1893600" cy="368280"/>
          </a:xfrm>
          <a:prstGeom prst="rect">
            <a:avLst/>
          </a:prstGeom>
          <a:noFill/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{font-size:42p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>
            <a:off x="1519200" y="4076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2282760" y="34005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itle 1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539640" y="3213000"/>
            <a:ext cx="8064720" cy="1511280"/>
            <a:chOff x="539640" y="3213000"/>
            <a:chExt cx="8064720" cy="1511280"/>
          </a:xfrm>
        </p:grpSpPr>
        <p:sp>
          <p:nvSpPr>
            <p:cNvPr id="163" name="WordArt 9"/>
            <p:cNvSpPr txBox="1"/>
            <p:nvPr/>
          </p:nvSpPr>
          <p:spPr>
            <a:xfrm>
              <a:off x="755640" y="3498840"/>
              <a:ext cx="76327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gora a pergunta é, porque  estilos in line ou incorporados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WordArt 10"/>
            <p:cNvSpPr txBox="1"/>
            <p:nvPr/>
          </p:nvSpPr>
          <p:spPr>
            <a:xfrm>
              <a:off x="1332000" y="4219560"/>
              <a:ext cx="64800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ão devem ser amplamente utilizados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539640" y="3213000"/>
              <a:ext cx="8064720" cy="151128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grande vantagem do uso de CSS é a de separar a marcação HTML/xHTML, da apresentação do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outras palavras, vale dizer que o HTML destina-se unicamente a estruturar e marcar o conteúdo, ficando por conta das CSS toda a responsabilidade pelo visual do docum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u melhor cliente telefona às 17:00h da tarde de uma sexta-feira (sempre ligam nesta hora para solicitar alguma coisa não é mesmo?) e diz o segui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emos uma reunião aqui na empresa, na segunda-feira às 08h com um potencial comprador e é nossa intenção fazer uma apresentação dos nossos produtos através do site que você criou e manté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eguindo uma sugestão do nosso departamento de marketing precisamos mudar a cor de todos os títulos no site de verde para vermelho, pois esta é a cor principal da marca do nosso comprador e com isso pretendemos fixar uma cumplicidade sublimin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sto é bem simples de fazer, não é? Afinal é só mudar a cor! Dá para você 'botar no ar' até às 19:30h ? Quero dar uma olhadinha antes de encerrar o expediente. O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laro que você concorda e responde que vai providenciar rapidinho, afinal é só para mudar a c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as, são 180 páginas no site! E os títulos são tags de cabeçalho deste t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&lt;h1&gt;&lt;font color="#00FF00"&gt;Título&lt;/font&gt;&lt;/h1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pondo uma média de 3 títulos por página, você tem um total de 540 tags font para editar e mudar o atributo col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 se o seu cliente tivesse pedido para mudar a cor dos textos, e do fun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432960" y="19162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los confl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700200" y="2637000"/>
            <a:ext cx="77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As folhas de estilo são em cascata (</a:t>
            </a:r>
            <a:r>
              <a:rPr b="1" i="1" lang="pt-BR" sz="1800" spc="-1" strike="noStrike">
                <a:solidFill>
                  <a:srgbClr val="4510ee"/>
                </a:solidFill>
                <a:latin typeface="Arial"/>
              </a:rPr>
              <a:t>cascading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), pois os elem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odem ser herdados por seus ancestrai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84200" y="3795840"/>
            <a:ext cx="81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problemas de conflitos são resolvidos através de regras apl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herança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17040" y="5084640"/>
            <a:ext cx="79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s elementos filhos tem maior especificidade, ou seja, as heranç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ssadas através dos seus ancestrais são sobrepostas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uver conflito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"/>
          <p:cNvSpPr/>
          <p:nvPr/>
        </p:nvSpPr>
        <p:spPr>
          <a:xfrm>
            <a:off x="2933640" y="1916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 de estilo confli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1690560" y="2637000"/>
            <a:ext cx="5832720" cy="13726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b { background-color: #8000ff;  color: white }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h1       { font-family: arial, sans-seri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p         { font-size: 14pt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.special { color: blue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114560" y="4437000"/>
            <a:ext cx="6983280" cy="916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p class = "special"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he company's clients includ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une 1000 compani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/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063080" y="5613480"/>
            <a:ext cx="7085880" cy="824040"/>
          </a:xfrm>
          <a:prstGeom prst="rect">
            <a:avLst/>
          </a:prstGeom>
          <a:noFill/>
          <a:ln w="22320">
            <a:solidFill>
              <a:srgbClr val="451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exemplo tanto o elemento &lt;p&gt; quanto o elemento &lt;b&gt;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ropriedade color, no entanto a de maior grau de especificidade é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elemento filho, ou seja, a cor em que o texto será mostrado será bran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7"/>
          <p:cNvSpPr/>
          <p:nvPr/>
        </p:nvSpPr>
        <p:spPr>
          <a:xfrm>
            <a:off x="2124720" y="19890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792000" y="2870280"/>
            <a:ext cx="7667640" cy="32576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hover  { text-decoration: underline;  color: red; background-color: #ccffcc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li em    { color: red; font-weight: bold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      { margin-left: 7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ul    { text-decoration: underline; margin-left: 1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pt-BR" sz="4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3117600" y="177336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749680" y="2492280"/>
            <a:ext cx="3542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68600" y="4149720"/>
            <a:ext cx="76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padrão os o conteúdos de um element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a&gt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ão exibidos sublinh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browser, neste caso estamos definido com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none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seja, não i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arecer da forma padr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900000" y="3429000"/>
            <a:ext cx="75614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&gt;&lt;a class = "nodec" href = "http://food.com"&gt;Go to the Grocery  store&lt;/a&gt;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22160" y="5516640"/>
            <a:ext cx="77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text-decoration: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 é utilizada para aplicar decorações ao texto dentro de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m elemento.  Outros valores possíveis são over-line e line-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06120" y="357336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la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842400" y="4652280"/>
            <a:ext cx="74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pseudo-classes permitem-nos associar efeitos especiais a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CSS ou a partes de sele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918720" y="407664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al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971640" y="3500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link { color: #003395; font-weight: bold; fonte-size: 10pt; text-decoration: none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visited { color: #003390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active { color: #444444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35120" y="5373720"/>
            <a:ext cx="60512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iem uma página com um link e verifiquem 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059280" y="2708280"/>
            <a:ext cx="302400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uras Pseudo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504000" y="19461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1 A sintaxe 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intaxe das definições CSS é composta por duas partes: um selector e 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laração. 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Uma regra CSS"/>
          <p:cNvPicPr/>
          <p:nvPr/>
        </p:nvPicPr>
        <p:blipFill>
          <a:blip r:embed="rId1"/>
          <a:stretch/>
        </p:blipFill>
        <p:spPr>
          <a:xfrm>
            <a:off x="2592360" y="4017960"/>
            <a:ext cx="395928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7"/>
          <p:cNvSpPr/>
          <p:nvPr/>
        </p:nvSpPr>
        <p:spPr>
          <a:xfrm>
            <a:off x="198036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139480" y="2717280"/>
            <a:ext cx="46933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A sintaxe das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elector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1058400" y="4374720"/>
            <a:ext cx="70556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classes CSS também podem ser utilizadas com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elector.classe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7"/>
          <p:cNvSpPr/>
          <p:nvPr/>
        </p:nvSpPr>
        <p:spPr>
          <a:xfrm>
            <a:off x="2051640" y="17668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2824920" y="2420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676800" y="3141000"/>
            <a:ext cx="7790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  ligações (links) tem estado ativo, já visitadas, não visitadas, ou qu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ontram sob o ponteiro do mouse podem ser apresentadas com core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ilos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350000" y="4592160"/>
            <a:ext cx="6418440" cy="106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link { color: #FF0000 } /* link ainda não visitado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visited { color: #00FF00 } /* link já visit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hover { color: #FF00FF } /* link que está sob o ponteiro do mous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active { color: #0000FF } /* link selecion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824920" y="2636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708120" y="3440520"/>
            <a:ext cx="7727400" cy="2837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a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Para funcionar bem, a:hover deve ser definido depois de a:link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:visited já estarem defin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ara funcionar bem, a:active deve ser definido depois de a:h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Os nomes das pseudo-classes são insensíveis ao tipo de letra. Pode u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maiúsculas ou minúsculas indistint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7"/>
          <p:cNvSpPr/>
          <p:nvPr/>
        </p:nvSpPr>
        <p:spPr>
          <a:xfrm>
            <a:off x="2113560" y="19782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607920" y="2698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840240" y="3577320"/>
            <a:ext cx="7441200" cy="2284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pseudo-classes podem ser combinadas com classes CSS definidas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.red:visited { color: #FF0000 }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a class="red" href="pagina.html"&gt;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&lt;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Se a ligação do exemplo anterior já tiver sido clicada (visitada) o texto aparece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a cor vermel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901080" y="277416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seudo-classe :first-chil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905400" y="3429360"/>
            <a:ext cx="7709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vis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a pseudo-classe ainda não é bem suportada pelos browsers. Nã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e porque não irá obter os resultados que preten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seudo-classe :first-child afeta o primeiro dos elementos (primeiro descendent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 se encontra dentro de um outro ele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036080" y="299016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 pseudo-classe :lang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134360" y="4071240"/>
            <a:ext cx="743364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seudo-classe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:la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ermite ao autor especificar a língua usada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cumento ou num determinado e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42920" y="3417840"/>
          <a:ext cx="7288200" cy="2286000"/>
        </p:xfrm>
        <a:graphic>
          <a:graphicData uri="http://schemas.openxmlformats.org/drawingml/2006/table">
            <a:tbl>
              <a:tblPr/>
              <a:tblGrid>
                <a:gridCol w="1584360"/>
                <a:gridCol w="5703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eudo-cla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l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selecion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ando o ponteiro do mouse está sobre 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ainda não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si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já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st-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o primeiro descend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ite definir atributos estilísticos diferentes para aplicar ao texto escrito numa determinada língu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74"/>
          <p:cNvSpPr/>
          <p:nvPr/>
        </p:nvSpPr>
        <p:spPr>
          <a:xfrm>
            <a:off x="3566520" y="263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2556000" y="2708280"/>
            <a:ext cx="41036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li em    { color: red;  font-weight: bol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987840" y="4005360"/>
            <a:ext cx="754920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: r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-weight: bol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403280" y="2637000"/>
            <a:ext cx="6193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l ul    { text-decoration: underline;  margin-left: 15px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32040" y="4005360"/>
            <a:ext cx="8029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text-decor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nderline;  margin-left: 15p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Uma regra CSS"/>
          <p:cNvPicPr/>
          <p:nvPr/>
        </p:nvPicPr>
        <p:blipFill>
          <a:blip r:embed="rId1"/>
          <a:stretch/>
        </p:blipFill>
        <p:spPr>
          <a:xfrm>
            <a:off x="2916360" y="1844640"/>
            <a:ext cx="3311280" cy="907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316080" y="3062160"/>
            <a:ext cx="851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e exempl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H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z que o estilo se aplica a element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h1&gt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definição diz que a cor do texto destes elementos deve ser ver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"green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eclaração fica entre chaves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...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e pode conter várias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definição é formada por um pa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priedade:val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m que o valor é separado da propriedade pelo carácter : (dois pontos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nha seguinte ilustra isto de forma gené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{ propriedade: valor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1058040" y="190260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 exemplo seguinte permite-lhe experimentar isto de imedi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H1 { color: green } 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1&gt;Este cabeçalho tem cor verde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310320" y="3453120"/>
            <a:ext cx="852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O seletor é normalmente o nome de um elemento do HTML, mas tamb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pode ser um seletor de classe, um seletor de ID ou um seletor contex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(estes conceitos serão esclarecidos mais à fr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3564000" y="220500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684360" y="1915560"/>
            <a:ext cx="77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o valor que queremos dar à propriedade tiver mais do que uma palav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mos colocá-lo entre aspas, como se mostra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01120" y="2912040"/>
            <a:ext cx="814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font-family: "comic sans ms"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comic sans ms"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437760" y="1577880"/>
            <a:ext cx="830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tro das chaves (caractere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podemos colocar várias defini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paradas pelo caractere ";" (ponto e vírgul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xemplo seguinte define três propriedades para o elemento &lt;p&gt;, que s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linhamento, a cor do texto e o tipo de le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center; color: green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arial", cor verde e es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1:09:12Z</dcterms:created>
  <dc:creator>Ricardo Medeiros</dc:creator>
  <dc:description/>
  <dc:language>en-US</dc:language>
  <cp:lastModifiedBy>Moisés Souto</cp:lastModifiedBy>
  <dcterms:modified xsi:type="dcterms:W3CDTF">2013-04-03T23:27:29Z</dcterms:modified>
  <cp:revision>319</cp:revision>
  <dc:subject/>
  <dc:title>Slide 1</dc:title>
</cp:coreProperties>
</file>